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42A-1837-4399-A9C6-11AE5DD7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17E-9AE7-4C35-91D3-AED46904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60D-1374-4577-BE88-FB075212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F35-0A6A-4E10-997F-48315C11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992D-1477-45E6-BC2E-32D5127F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77E6-63CC-4C03-A8B9-B9AE1372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978F-1771-4557-8B31-A6C21BF4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E7EA-09FF-4FEC-AAC4-BE3041F5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0AEB-7489-4070-80B4-E8AF353C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305E-919E-4934-AE0E-AB687DA7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2142-4BEE-491A-922E-AA5B67CD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9BA-7D0E-40E7-9D90-96EEF28A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0B07-804A-4D37-B689-1D6F37FB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1E42-731A-4E96-8815-AE24C6B6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F54F-2120-4FFF-818C-8FAFD3BB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9967-5F5E-485C-B7A3-1C919026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7F9E-E0F3-4384-8972-69CAF949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5F3-2D08-48AE-A313-AB060081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834-9D44-48B1-9C96-1FEA4D22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D76-039E-470C-BD49-A415C43F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F50-B0CB-4B1B-A5E8-1F3E48DD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6D8-79D3-4818-9AB9-480DCC19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011-C5A1-4872-B1BB-9EB10990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383-5632-47AB-8448-7CE015B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A849-6DCD-46C9-95BC-55849BCFE9B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02A5-FB1C-42B3-9135-7E3AEED380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library.ru/" TargetMode="External"/><Relationship Id="rId2" Type="http://schemas.openxmlformats.org/officeDocument/2006/relationships/hyperlink" Target="http://ilibrary.ru/" TargetMode="External"/><Relationship Id="rId3" Type="http://schemas.openxmlformats.org/officeDocument/2006/relationships/hyperlink" Target="http://ilibrary.ru/" TargetMode="External"/><Relationship Id="rId4" Type="http://schemas.openxmlformats.org/officeDocument/2006/relationships/hyperlink" Target="http://ilibrary.ru/" TargetMode="External"/><Relationship Id="rId5" Type="http://schemas.openxmlformats.org/officeDocument/2006/relationships/hyperlink" Target="http://ilibrary.ru/" TargetMode="External"/><Relationship Id="rId6" Type="http://schemas.openxmlformats.org/officeDocument/2006/relationships/hyperlink" Target="http://ilibrary.ru/" TargetMode="External"/><Relationship Id="rId7" Type="http://schemas.openxmlformats.org/officeDocument/2006/relationships/hyperlink" Target="http://ilibrary.ru/" TargetMode="External"/><Relationship Id="rId8" Type="http://schemas.openxmlformats.org/officeDocument/2006/relationships/hyperlink" Target="file:///SokotunMaria3.ppt" TargetMode="External"/><Relationship Id="rId9" Type="http://schemas.openxmlformats.org/officeDocument/2006/relationships/hyperlink" Target="file:///SokotunMaria3.ppt" TargetMode="External"/><Relationship Id="rId10" Type="http://schemas.openxmlformats.org/officeDocument/2006/relationships/hyperlink" Target="file:///SokotunMaria3.ppt" TargetMode="External"/><Relationship Id="rId11" Type="http://schemas.openxmlformats.org/officeDocument/2006/relationships/hyperlink" Target="file:///SokotunMaria3.ppt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okotunMaria3.ppt#2. &#1062;&#1077;&#1083;&#1100;:" TargetMode="Externa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4149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112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6069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cc"/>
                </a:solidFill>
                <a:latin typeface="Tahoma"/>
              </a:rPr>
              <a:t>«Луч света в тёмном царстве. Могла ли спастись Катерина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92804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Автор: Александрова Люб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10 «а» класс, г.Сыктывка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7 учащихся 1 учащийся предложил уйти в монастыр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учащихся предложили вернуться к матер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предложили терпеть и молчать об изме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предложили бороться методами Кабаних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Tahoma"/>
              </a:rPr>
              <a:t>Использованные ресур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филактика суицидального поведения у детей и подростк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тодические рекомендации. Сыктывкар, 2002. Составитель Рожицина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й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ilibrary.r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      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www.kostyor.r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      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http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://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www.maly.r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лан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Ц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Опросник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Итоги исслед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Используемые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Tahoma"/>
              </a:rPr>
              <a:t>Цел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отвратить суицидальные настроения среди учащихся 10х кла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ытка найти решение из безвыходной ситу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росник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ель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знать мнение учащихся, так ли безвыходна ситуация Катерины и кто виновен в её смер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1. Что в большей степени способствовало гибели Катерины? (выбрать не более одного пункта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ннее замужеств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кровь (Кабаних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звольный муж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и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дничество Вар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. Могла ли спастись Катерин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 (если «Да», то как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Т (если «Нет», то почему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Tahoma"/>
              </a:rPr>
              <a:t>Итоги исследова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просе принимало участие 32 учащихся 10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Что в большей степени способствовало гибели Катерины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ние 13 чел. - 1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ннее замужество 3 чел. – 9,3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кровь (Кабаниха) 16 чел. -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звольный муж 2 чел. – 8,1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ис 2 чел. – 6,3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дничество Варвары 1 чел. – 3,1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з 32 учащихся 25 человек (78,1 %) считал, что у Катерины не было возможности спастис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 7 учащихся 21,8 %, считало, что могла спастис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6:15:52Z</dcterms:created>
  <dc:creator>Администратор</dc:creator>
  <dc:description/>
  <dc:language>en-US</dc:language>
  <cp:lastModifiedBy>студент</cp:lastModifiedBy>
  <dcterms:modified xsi:type="dcterms:W3CDTF">2010-05-12T09:24:57Z</dcterms:modified>
  <cp:revision>7</cp:revision>
  <dc:subject/>
  <dc:title>PowerPoint Presentation</dc:title>
</cp:coreProperties>
</file>